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600" y="685440"/>
            <a:ext cx="4438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F3FC5763-991F-4608-9ED9-67A8FD047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DFE6BB5D-C266-4A76-9B53-9C8E24D1D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54E5C1FD-9D9C-4AD2-A1BE-95956F80D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0594936E-D815-41FB-B0C4-FF38EDF9A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45FFB7D6-698D-4CD9-93AC-EC5637048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9AD7C527-DE92-4ED0-BBFB-519FDCEC8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88A4A92B-AC5A-4735-A5E9-0CC359E6C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20DEB93A-CA81-441A-B47D-019E5CE19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F2EFAC39-F18A-4723-B732-C50DC562B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B641C6E4-94F6-4FE7-8E11-FB7C1EE24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71234353-3791-4894-9409-70C60632C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D06CB480-0452-4984-AD42-88B0E4D9E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D77193F8-C8F5-4F11-B8B4-36C8B106D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209-3B8E-4020-BAB8-BC0257C7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CDD-AB63-4EC0-BE2C-8C8CD8B4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FAF-E616-44DD-857A-E9D28122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B91-4FB8-4917-AB9E-AA2A4481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23D-6AB2-4F51-A013-A5247F7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94A-9289-4FA9-AABF-36457C71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EEC-9AE0-429C-BB80-56339646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7E6-E9B9-4629-850A-83FE5EA3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B13-89B6-47E2-B5D0-498C525C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B4E-8618-4955-B99F-991AD8A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55F-6864-43D9-899E-A28AAE6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D71-5E38-4449-9514-10B566AC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203600"/>
            <a:ext cx="318456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0CC653AD-F653-4025-8EF6-150AD4C0A905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a.org/profdev/cert/index.cf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2085120" y="1828800"/>
            <a:ext cx="601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roposed certification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Information every local lea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should 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091280" y="5943600"/>
            <a:ext cx="250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Policy &amp; Prof.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ll Presidents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March 8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685800" y="1295280"/>
            <a:ext cx="876312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teacher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urrent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orking as literacy coaches, coordinator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 teachers, etc. would have to have certificate – </a:t>
            </a:r>
            <a:r>
              <a:rPr b="1" lang="en-US" sz="2200" spc="-1" strike="noStrike" u="sng">
                <a:solidFill>
                  <a:srgbClr val="7030a0"/>
                </a:solidFill>
                <a:uFillTx/>
                <a:latin typeface="Calibri"/>
              </a:rPr>
              <a:t>no grandfathe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chers who now provide early intervention services to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utside regular classroom would have to hold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to earn initial certificate increases – more credit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to earn professional certificate – 12 additional cred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der range of responsibilities under one certificate – curren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 two certific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program too broad for 30 credits – results 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prepared tea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36440" y="38088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and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3124080" y="9144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918440" y="53352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EA  proposals for Literacy Specialist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4"/>
          <p:cNvSpPr/>
          <p:nvPr/>
        </p:nvSpPr>
        <p:spPr>
          <a:xfrm>
            <a:off x="3124080" y="106668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838080" y="1371600"/>
            <a:ext cx="861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levels of literacy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ac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Calibri"/>
              </a:rPr>
              <a:t>teacher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working with students and thei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(one-on-one or small gro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acy 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s</a:t>
            </a:r>
            <a:r>
              <a:rPr b="1" i="1" lang="en-US" sz="2400" spc="-1" strike="noStrike">
                <a:solidFill>
                  <a:srgbClr val="008000"/>
                </a:solidFill>
                <a:latin typeface="Calibri"/>
              </a:rPr>
              <a:t>pecialis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raining paras, tutors, coach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c.; program development &amp; coordination; full diagnosis &amp; intervention/remediation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0000"/>
              </a:buClr>
              <a:buFont typeface="Wingdings 2" charset="2"/>
              <a:buChar char="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have experience as literacy teach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c0000"/>
              </a:buClr>
              <a:buFont typeface="Wingdings 2" charset="2"/>
              <a:buChar char="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arate preparation &amp; responsibilities allows greater depth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&amp; skill…..more effective services to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545840" y="380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Get involved in CEA campaign to change certificatio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4"/>
          <p:cNvSpPr/>
          <p:nvPr/>
        </p:nvSpPr>
        <p:spPr>
          <a:xfrm>
            <a:off x="3048120" y="914400"/>
            <a:ext cx="373356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85800" y="1143000"/>
            <a:ext cx="8763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more details about certification proposals on CEA web site – encou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bers to do same 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ea.org/profdev/cert/index.cf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71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public hearings on certification regul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day, April 5 – CREC (Hartf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sday, April 6 – CES (Trumb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day, April 12 – EASTCONN (Willimant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ursday, April 29 – ACES (Hamd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with Uni Serv rep to organize teachers …… attend hearings; use C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 to write testimony for CEA to send to State Board &amp; S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 CEA know what needs clar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1179720" y="762120"/>
            <a:ext cx="77274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DE proposing major certification changes in 3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pecial edu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major change in requirements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certif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eacher lead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new certificate SDE would requ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Literac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combines current reading teacher &amp; rea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ltant certific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~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hanges would become effective July 1, 2014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3"/>
          <p:cNvSpPr/>
          <p:nvPr/>
        </p:nvSpPr>
        <p:spPr>
          <a:xfrm>
            <a:off x="3124080" y="13716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65560" y="533520"/>
            <a:ext cx="91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oposed special education teacher &amp; intervention specialist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926280" y="1523880"/>
            <a:ext cx="843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initial certification through bachelor’s level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aster’s degree for initial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prior certificate or passing Praxis II in any content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inimum 75 hours of CEUs in areas specified by S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vance to professional certificat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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aching certificate that would have these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7"/>
          <p:cNvSpPr/>
          <p:nvPr/>
        </p:nvSpPr>
        <p:spPr>
          <a:xfrm>
            <a:off x="3124080" y="106668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907360" y="4572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&amp;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85800" y="12952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lear 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 educators would be grandfath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for teachers to meet requirements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b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ousands of doll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s would be forced to hire at master’s level – financi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for many districts, so would limit number of special educators h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 range of responsibilities allowed under one certificate to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for any teacher to handle, &amp; still service student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5"/>
          <p:cNvSpPr/>
          <p:nvPr/>
        </p:nvSpPr>
        <p:spPr>
          <a:xfrm>
            <a:off x="3048120" y="990720"/>
            <a:ext cx="373356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685800" y="1295280"/>
            <a:ext cx="8763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s might focus assignment of special educators to deal mos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tasks other than direct service to students; e.g., training paras, diagnostics, facilitating PPTs, et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take longer to prepare special educators - initially may cre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eater shortage of special ed teach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program too broad for 30 credits – results in underprepa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 educators from out of state not certifiable unless they ha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’s in special ed – further decreases number of special educators in 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ing master’s for initial certificate eliminates teacher’s ability 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rn master’s degree (for professional certificate) in area of 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983680" y="4572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&amp;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5"/>
          <p:cNvSpPr/>
          <p:nvPr/>
        </p:nvSpPr>
        <p:spPr>
          <a:xfrm>
            <a:off x="3124080" y="99072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954800" y="5335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EA  proposals for Special Education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762120" y="144792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ased on focus groups, survey, &amp; work with special educators, CE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oposed the following regarding special education certific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levels of special education cert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Teaching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level 1; preparation to work with students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ld to moderate dis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Speciali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level 2; preparation to work with students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e disabilities, and for other responsi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t hold teaching certificate before advancing to specialist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5"/>
          <p:cNvSpPr/>
          <p:nvPr/>
        </p:nvSpPr>
        <p:spPr>
          <a:xfrm>
            <a:off x="3124080" y="106668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2684520" y="3808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oposed teacher leader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4"/>
          <p:cNvSpPr/>
          <p:nvPr/>
        </p:nvSpPr>
        <p:spPr>
          <a:xfrm>
            <a:off x="3124080" y="9144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938880" y="1143000"/>
            <a:ext cx="810396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d for teacher work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e th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0% of time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on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l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 l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c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iculum speci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y other simila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aster’s degree and 12 graduate credits &amp; fi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ences in specific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DE pushing certificate based on erroneous assertion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national standards for TLs, and ETS has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-based assessment for T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2983680" y="4572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&amp;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4"/>
          <p:cNvSpPr/>
          <p:nvPr/>
        </p:nvSpPr>
        <p:spPr>
          <a:xfrm>
            <a:off x="3124080" y="99072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838080" y="1219320"/>
            <a:ext cx="877896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urrently working in such position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would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grandfathered – woul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arn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to teachers for additional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 training provided to teacher leaders only ‘counts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 certification if district designs, and has approv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0-hou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cribed coursework might not match needs for position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ification changes expected to be in place for 15+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2527920" y="38088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oposed literacy specialist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4"/>
          <p:cNvSpPr/>
          <p:nvPr/>
        </p:nvSpPr>
        <p:spPr>
          <a:xfrm>
            <a:off x="3124080" y="9144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759240" y="1295280"/>
            <a:ext cx="905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s 2 current remedial reading &amp; reading consult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 1 certificate – “administrators don’t understand dif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them, &amp; use educators interchangeabl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rtificate - requires master’s degree/30 graduate credit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in curriculum development, children’s literatu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litera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profession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ificate – requires 12 cred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ose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6:43:21Z</dcterms:created>
  <dc:creator>Lenovo User</dc:creator>
  <dc:description/>
  <dc:language>en-US</dc:language>
  <cp:lastModifiedBy>jcook</cp:lastModifiedBy>
  <dcterms:modified xsi:type="dcterms:W3CDTF">2010-03-11T22:08:05Z</dcterms:modified>
  <cp:revision>43</cp:revision>
  <dc:subject/>
  <dc:title>Slide 1</dc:title>
</cp:coreProperties>
</file>